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E670-CC9B-4255-A2C5-B3FA331CC083}"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CF8D-6150-407A-AB9B-3B2AA39E6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1E9B-2217-4361-95A8-E919EAD5D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81CC7-C9F7-420B-A155-D58153B36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63909-3C4F-4B23-8426-0DE573E91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20639-44BF-4193-8289-F878EA385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C6A9A-8304-499A-A2C1-C8077FD89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0B3F8-D012-419A-91EC-5AC89BC5B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F9052-1A96-4F9D-9E8A-81A8E7669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137F9-315B-4136-BCE3-6EF5CCEB0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94070-DB72-47D8-817B-F45499AD8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BB8B7-C923-497E-8BF0-0FE777177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CBBA6-9563-4A18-BABC-DB0043801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B7679-780D-415F-A4E7-F31E155B2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CEE9A-E609-4580-91D0-01DB3AB7E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7B40-A392-4D6E-953A-A10AE5B51B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 Man who Changed a Nation: Ben Franklin’s Postal Service</a:t>
            </a:r>
            <a:endParaRPr b="0" lang="en-US" sz="40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y Evan Cohen</a:t>
            </a:r>
            <a:endParaRPr b="0" lang="en-US" sz="3200" spc="-1" strike="noStrike">
              <a:solidFill>
                <a:srgbClr val="000000"/>
              </a:solidFill>
              <a:latin typeface="Arial"/>
            </a:endParaRPr>
          </a:p>
        </p:txBody>
      </p:sp>
      <p:pic>
        <p:nvPicPr>
          <p:cNvPr id="51" name="j0214098.wav" descr=""/>
          <p:cNvPicPr/>
          <p:nvPr/>
        </p:nvPicPr>
        <p:blipFill>
          <a:blip r:embed="rId2"/>
          <a:stretch/>
        </p:blipFill>
        <p:spPr>
          <a:xfrm>
            <a:off x="80010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 descr=""/>
          <p:cNvPicPr/>
          <p:nvPr/>
        </p:nvPicPr>
        <p:blipFill>
          <a:blip r:embed="rId1"/>
          <a:stretch/>
        </p:blipFill>
        <p:spPr>
          <a:xfrm>
            <a:off x="457200" y="1600200"/>
            <a:ext cx="8229600" cy="4525920"/>
          </a:xfrm>
          <a:prstGeom prst="rect">
            <a:avLst/>
          </a:prstGeom>
          <a:ln w="0">
            <a:noFill/>
          </a:ln>
        </p:spPr>
      </p:pic>
      <p:pic>
        <p:nvPicPr>
          <p:cNvPr id="79" name="Picture 3" descr=""/>
          <p:cNvPicPr/>
          <p:nvPr/>
        </p:nvPicPr>
        <p:blipFill>
          <a:blip r:embed="rId2"/>
          <a:stretch/>
        </p:blipFill>
        <p:spPr>
          <a:xfrm>
            <a:off x="0" y="0"/>
            <a:ext cx="9448920" cy="683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iding the Patriot Cause</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ithout these improvements to the postal system many important messages may not have been received such a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n Franklin’s Political “Join or Die” cartoo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essages referring to taxes in Bosto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ationalism</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project relates to the theme of nationalism because without the changes to the postal system many messages referring to Patriot cause may not have been received causing the revolution to be less powerf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bjective:</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tudents should be able to list at least 2 changes Ben Franklin made to the U.S. postal system</a:t>
            </a:r>
            <a:endParaRPr b="0" lang="en-US" sz="3200" spc="-1" strike="noStrike">
              <a:solidFill>
                <a:srgbClr val="000000"/>
              </a:solidFill>
              <a:latin typeface="Arial"/>
            </a:endParaRPr>
          </a:p>
        </p:txBody>
      </p:sp>
      <p:pic>
        <p:nvPicPr>
          <p:cNvPr id="55" name="MS900437881[1].wav" descr=""/>
          <p:cNvPicPr/>
          <p:nvPr/>
        </p:nvPicPr>
        <p:blipFill>
          <a:blip r:embed="rId2"/>
          <a:stretch/>
        </p:blipFill>
        <p:spPr>
          <a:xfrm>
            <a:off x="84582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5706"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al Service before Franklin</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639 was the first year that any note of a postal system would arise in the united state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main overseas post office was located at Richard Fairbanks’ Taver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ostal service before Frankli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would take as much as 14 days for a letter to travel as little as 2 close by cities</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would take as long as several months for overseas</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st of the time letters would not reach their overseas destination.</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riters would make as much as much as five copies of a letter to guarantee it would reach the destin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0000"/>
                </a:solidFill>
                <a:latin typeface="Arial"/>
              </a:rPr>
              <a:t>Postal Service Before Franklin Cont’d</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riters would use several ships so their letter would reach their destinatio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outes for letters to travel were not well thought-ou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ostmen were friends, slaves, sailors or other traveler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re were no actual post off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en Franklin’s changes</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 1737 a man by the name of Benjamin Franklin who had the role as Postmaster of Philadelphia began to make much needed improvement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e started with creating direct routes between each colon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en Franklin’s changes Cont’d</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o make the delivery extra fast between the two major cities of New York and Philadelphia he made the mail wagon travel through the night as well as the day.</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lso, he created the first postal rate system to be used by most postal services which list the shipping charge via weigh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7" descr="http://www.amsys.co.uk/training/images/e-mail_icon.jpg"/>
          <p:cNvPicPr/>
          <p:nvPr/>
        </p:nvPicPr>
        <p:blipFill>
          <a:blip r:embed="rId1"/>
          <a:stretch/>
        </p:blipFill>
        <p:spPr>
          <a:xfrm>
            <a:off x="228600" y="-112680"/>
            <a:ext cx="8915400" cy="702468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utcome of Franklin’s changes</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ranklin’s changes are a huge success</a:t>
            </a:r>
            <a:endParaRPr b="0" lang="en-US" sz="3200" spc="-1" strike="noStrike">
              <a:solidFill>
                <a:srgbClr val="000000"/>
              </a:solidFill>
              <a:latin typeface="Arial"/>
            </a:endParaRPr>
          </a:p>
          <a:p>
            <a:pPr marL="315360" indent="-3153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t only letters but newspapers such as Ben Franklin’s Pennsylvania gazette allowing much more people to be up to date with the news</a:t>
            </a:r>
            <a:endParaRPr b="0" lang="en-US" sz="3200" spc="-1" strike="noStrike">
              <a:solidFill>
                <a:srgbClr val="000000"/>
              </a:solidFill>
              <a:latin typeface="Arial"/>
            </a:endParaRPr>
          </a:p>
          <a:p>
            <a:pPr marL="315360" indent="-3153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arned him the title of “Father of the U.S. Postal System”</a:t>
            </a:r>
            <a:endParaRPr b="0" lang="en-US" sz="3200" spc="-1" strike="noStrike">
              <a:solidFill>
                <a:srgbClr val="000000"/>
              </a:solidFill>
              <a:latin typeface="Arial"/>
            </a:endParaRPr>
          </a:p>
          <a:p>
            <a:pPr marL="315360" indent="-3153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e is the symbol of our postal service</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5" name="" descr=""/>
          <p:cNvPicPr/>
          <p:nvPr/>
        </p:nvPicPr>
        <p:blipFill>
          <a:blip r:embed="rId1"/>
          <a:stretch/>
        </p:blipFill>
        <p:spPr>
          <a:xfrm>
            <a:off x="457200" y="1600200"/>
            <a:ext cx="8229600" cy="4525920"/>
          </a:xfrm>
          <a:prstGeom prst="rect">
            <a:avLst/>
          </a:prstGeom>
          <a:ln w="0">
            <a:noFill/>
          </a:ln>
        </p:spPr>
      </p:pic>
      <p:pic>
        <p:nvPicPr>
          <p:cNvPr id="76" name="Picture 4" descr=""/>
          <p:cNvPicPr/>
          <p:nvPr/>
        </p:nvPicPr>
        <p:blipFill>
          <a:blip r:embed="rId2"/>
          <a:stretch/>
        </p:blipFill>
        <p:spPr>
          <a:xfrm>
            <a:off x="152280" y="-9575640"/>
            <a:ext cx="10211040" cy="1643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5T22:37:22Z</dcterms:created>
  <dc:creator>Mount Lebanon School District</dc:creator>
  <dc:description/>
  <dc:language>en-US</dc:language>
  <cp:lastModifiedBy>nstarzynski</cp:lastModifiedBy>
  <dcterms:modified xsi:type="dcterms:W3CDTF">2011-04-13T14:23:11Z</dcterms:modified>
  <cp:revision>10</cp:revision>
  <dc:subject/>
  <dc:title>A Man who Changed a Nation: Ben Franklins Postal Service</dc:title>
</cp:coreProperties>
</file>